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B6B-87C1-48A6-8EED-6869D565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8C0-25DA-48F6-8015-226898B4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F02-C604-4592-9B17-DA149A5D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2EB-D089-49BB-B7F0-2A46D097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D2C3-85C6-45A6-92FF-7CCAEE1D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EA45-FBFA-4FF5-80AA-70E5B650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FE57-C5E8-4B05-A8F0-5A123046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5F09-0D4D-49A5-BAA7-CC52BB06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B561-6260-413C-A62D-EDF06F8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8EEC-32C0-409B-8CD3-31E4578E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91F7-6D43-4BAA-82FA-0AA6603F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226-3AAB-423E-8CE8-5F04F7E4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6683-CB2F-426D-86ED-EAECEB30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3635-B6EE-4826-87BF-2D2CFB6B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D464-5CC1-4BFA-B381-46D91947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31F8-AE22-4C88-A451-A0BE1BE1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70B3-8576-4B9E-A934-6EE7936D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CD0-4675-4FB5-8EEE-B97E0773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8CD-0AF6-4839-B619-74B336CC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A82-4D0E-4BD1-8BDE-545058FF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760-622B-4D90-BE38-0B279E95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861-4A6D-439B-B27A-B9A92E5E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D1F-D83F-4DC4-97B3-C5B14B6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204-3AD4-4458-9A64-98FA7160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61DF-0580-4B3A-A981-CCF28ACADCA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0EB5-0148-4AFD-8F48-DD5A07748C9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686160"/>
            <a:ext cx="6870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t’s a popular English game.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final competition takes place on London stadium Wembly in May.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782760" y="556200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3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10840" y="4647240"/>
            <a:ext cx="24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ootb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36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